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E5A-A849-44F9-BD74-6895CDF9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9C5-737C-43B7-8624-EF4AEFC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6B3-AEC1-446A-B5E7-05F9DBD8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3FC-2661-4C20-895B-10402024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D1DF-D9FE-4020-BDD1-9D49E3D6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08FD-999D-4C26-9790-EE7A0B1B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33E4-E5A6-4415-8670-A9931DEB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CD39-6153-46CC-80BE-85F25A30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3BA0-6E05-458C-BB04-DA7A6ACB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DA66-5E0C-4E53-8436-CD1477D7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6BDC-BD9E-4BFF-906E-A2DC765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A47-EE3D-4A90-8EB1-B737C41E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9FCC-39C1-40F6-9FF0-92426298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694E-9F71-4187-9EFC-3A8A3365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934A-9EF2-40E1-A0C6-9A1ACA84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48B8-203C-4A3E-A05C-BAE72C87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E7D0-FC0A-42C2-BFD1-124FBC20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2DE-767C-49A8-B493-AFC238C8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8B1-75E6-42E4-9D30-4B32FC9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5CC-9476-4B75-B31C-07896963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AFA-FDFC-4FB1-931D-5D8D6D42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176-CD3D-4EFF-87D1-20ED3494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ECE-BA78-454B-834B-1B781AA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404-51D3-47C1-B9F3-BE836836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B530-C00B-48AC-9C3F-B3652380E6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EA3F-82EA-4DF8-8454-26530EACC9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6108840" y="5137200"/>
            <a:ext cx="237960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5698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5698"/>
              </a:solidFill>
              <a:latin typeface="Cooper Black"/>
              <a:ea typeface="Cooper Black"/>
            </a:endParaRPr>
          </a:p>
        </p:txBody>
      </p:sp>
      <p:pic>
        <p:nvPicPr>
          <p:cNvPr id="87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Measure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pic>
        <p:nvPicPr>
          <p:cNvPr id="89" name="Picture 8" descr="C:\Documents and Settings\Liz\Local Settings\Temporary Internet Files\Content.IE5\1F1XIRIX\MCj02327230000[1].wmf"/>
          <p:cNvPicPr/>
          <p:nvPr/>
        </p:nvPicPr>
        <p:blipFill>
          <a:blip r:embed="rId3"/>
          <a:stretch/>
        </p:blipFill>
        <p:spPr>
          <a:xfrm>
            <a:off x="228600" y="4191120"/>
            <a:ext cx="3616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Cooper Black"/>
              </a:rPr>
              <a:t>Measure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are the best forms of measurement in a biology c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54320" y="1852560"/>
            <a:ext cx="1692360" cy="1665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26360" y="1712880"/>
            <a:ext cx="1699920" cy="194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87880" y="4114800"/>
            <a:ext cx="1425240" cy="178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69120" y="424512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38480" y="3200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638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s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54320" y="1852560"/>
            <a:ext cx="1692360" cy="166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87880" y="4114800"/>
            <a:ext cx="1425240" cy="178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426360" y="1712880"/>
            <a:ext cx="1699920" cy="194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369120" y="42451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3:49:03Z</dcterms:created>
  <dc:creator>PritchaJ</dc:creator>
  <dc:description/>
  <dc:language>en-US</dc:language>
  <cp:lastModifiedBy>PritchaJ</cp:lastModifiedBy>
  <dcterms:modified xsi:type="dcterms:W3CDTF">2011-05-24T15:27:48Z</dcterms:modified>
  <cp:revision>2</cp:revision>
  <dc:subject/>
  <dc:title>Slide 1</dc:title>
</cp:coreProperties>
</file>